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6D8-8B52-4F40-871B-F392DE72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C2C-21CE-40E3-B62B-9C280298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E95-27C6-4831-A469-6D0AFB74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360-CAFA-421B-9C1F-5142A0DD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151-6646-496C-915F-3513A865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B5E-0359-4490-84FC-22FB688D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898-193E-4A72-B45A-B48CA7D0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AC2-D42F-4DC0-AE8F-7163E1D4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67E-72D5-4D87-8679-AB366672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D39-82B1-436D-B5ED-D1C0C51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19D-8FB6-4171-A823-9B42230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203-76A1-4058-A328-329A020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67F1-3F78-41C1-96C6-7993484E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1: 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tent Placeholder 2"/>
          <p:cNvSpPr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st a minimum of 50 things you use in a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rything from the alarm clock that wakes you up to the plate your dinner wa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than 60 is considered Advanced (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f you repeat, only count it once towards your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at is the primary natural resource that is used to mak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might take a little research for some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actually putting down a natural resources (wood and plastic are not natural resour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long do you use it until you replace or dispose of it (days, weeks, months, years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can you Reduce, Reuse or Recycl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is there a more environmentally friendly alternati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3:40:27Z</dcterms:created>
  <dc:creator>Cari Schruth</dc:creator>
  <dc:description/>
  <dc:language>en-US</dc:language>
  <cp:lastModifiedBy>Cari Schruth</cp:lastModifiedBy>
  <dcterms:modified xsi:type="dcterms:W3CDTF">2010-01-14T03:51:52Z</dcterms:modified>
  <cp:revision>2</cp:revision>
  <dc:subject/>
  <dc:title>PowerPoint Presentation</dc:title>
</cp:coreProperties>
</file>